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1.jpeg" ContentType="image/jpeg"/>
  <Override PartName="/ppt/media/image26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52C-2659-4429-A501-EA942B6F6AB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D494-17BF-47E7-92FD-62DB751F7FD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945-6D4A-42F8-BDEC-AD3DEF12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8E1-49C7-4DAE-B63F-36A6FA07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04636-A397-4656-BD99-AEC74D5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7A19-0BBC-4044-8287-249A7E7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FEA4-D1EF-4746-8EC1-4C58DC80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2FEA2-1F4C-40CC-AF67-820695F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936A5-8CDC-4E46-8DFE-E1C4F93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753BD-7A96-4EF7-9C0C-436E7F9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9042-B74F-48F2-A331-062D554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D8193-EC27-4F7B-B4E6-F3339811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7D902-B1A5-49C2-B1B9-8A8D6F7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7FFCA-61EA-4AE9-97EC-46BC21A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A77-945E-460E-848F-0332C436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05B53-5278-4926-AF12-7C7B3DE2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B8BF4-F4B0-429B-B567-4C8274E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6073E-E4BF-43FD-B608-4960762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8611-39BC-4F66-90E9-460DE8D6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6231-A085-428B-BEC2-AA53A384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52A2D-F90B-4823-A2B6-01F366A3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AA78F-995A-4072-A799-9CFE031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C7A6-6CAC-47F5-93E3-E9568EE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B1384-835C-4AE8-8942-DE338BA0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D368B-D83B-48C2-906D-FE9E2E2C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664-D181-4D46-B064-A4647402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EC675-4A49-4A5F-A406-019B33F4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C888-C6D5-4942-860B-86BD4819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BC01D-D115-42FC-A090-B9A17E3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2E091-00BF-467A-9D2C-7C1325B3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B6BE-5736-42BD-AF4E-FF20249D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F603-BE53-4563-9695-D2BB38F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EC1FD-F0C3-4020-BD49-ED11EDE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3C833-B247-4AA1-B4EB-D943923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66E9-383D-46B0-9527-7509421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641F9-B611-47F9-8F2E-5AD9FB6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A042-8542-4E2C-AE46-FE70E2D3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13E5-98BA-4645-99A8-239C243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9A05F-91AA-47F4-AD70-44ADBA62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F8A16-3254-4875-9833-73710BD1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42F47-1117-4032-83A3-441D8FBB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8B78C-616D-4A46-A605-A4588E6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67CD5-7CE8-44AC-9A02-410F1C9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162D6-036F-483E-B925-F4F320B0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D938B-C88F-4277-A6D1-12DF913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87618-1FBA-44E9-9F44-82F0343E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C495D-2DAA-4F8A-83DE-A2D1526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1DD7-AEF6-4DC5-B372-E8ECD06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79354-3BDD-4299-B15C-1BA9E24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CF9F5-005D-49EE-879B-F83A102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DC85-DE36-4C2A-BE3F-F42A9DF2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687FD-80A1-49EC-82F5-A862763F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38022-D8C5-4E3C-9490-B254F0A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B6C61-525C-4CED-9AE9-08DA133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98EA8-1756-467D-A48F-87C7CC83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7A27-C2E4-41FB-9A8E-1C9F67CF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F687C-E3A3-4B13-A74E-95569BE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54917-C251-484B-8026-169DB365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548C-C1EE-4668-91FE-8FF10AE6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4EC8B-7FE3-4C36-A1DE-DC95DCFB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FC2DC-5E23-49D7-94A2-1ECC9BF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E627D-358B-4702-AC95-3C8624F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EBCCD-BCB3-4C12-BFE6-2CD1134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7C8C8-7B82-449B-A480-529CA517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410DA-2BC4-4E9B-AEDE-3771C594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9CF3B-3BF3-41A1-9274-A9751DAE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97295-085E-4DB9-9227-885CAEFE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FAEA-F1E2-4874-9690-2D372E0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BDF89-BEEA-4F68-89DE-5DB6F71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C75E-72C1-4260-B2BC-7EB54E4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6A0C7-1F23-41F7-B534-6FB9420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C12C8-14D8-42A6-9B7E-FB80D83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98E94-2668-461C-B931-D1FF22A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2EB2E-4C10-4F7F-9B10-CD22156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24A2A-A724-43F9-A552-13146C24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2D7A2-B21D-4148-B484-B7C1C60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1707F-4974-4B2E-A062-59496332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D8754-FF70-4C7F-8CD5-B4C926C6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C660A-E1A6-448B-9DB4-F63A402D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55F88-D7F1-4127-97E1-68B8037A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504-5E69-4862-A512-08004B8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DB9EC-2DCC-4A6B-928C-EB7640E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FC741-80E4-4DD7-BD2B-9356069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C04CA-140C-456D-864A-5788CE3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50549-08AD-4E69-AE43-ECE16AD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6D100-387F-410E-BE70-FEC3EDB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7495E-E9C4-4556-93DC-57F9113B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87C42-71C1-4A86-9970-2DE7D8E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BACE8-7E92-4DFB-B513-ADF1DF3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1E531-C1D0-4530-A207-4BF79AE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F6541-35EB-47EA-A0E0-9E422C89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A91-6117-4511-A906-678A525A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04869-DB49-4C68-9DAC-CF506B4E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28BB5-A865-4B5F-BBF2-F15DAA9A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FFE66-F42A-474F-B8B8-F9604809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589BB-9EAA-4413-AD92-6502215B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05BA5-CEFC-4B13-9833-AD4D2F1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BB2A8-3492-438B-889D-7BC7847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BA646-24E0-4ED3-878D-F497E78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B422E-A63E-423B-A901-AC44C66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5572E-EA5D-47BB-B395-5125825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F7A39-4E22-4349-8FF2-B5A76F4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064-EC11-4753-9E60-E0E95B2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4BDAE-82D4-4BBB-A42E-E8A20CB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CC732-68F3-4D3C-82FE-36D71359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AD035-D3FD-4F46-B960-32798D58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32E99-D597-4849-9B62-8E92793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9A69E-5BA0-4EA6-9769-64D50BC4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B1F7C-4805-481A-AE12-6C3DC651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AB284-4F3D-4DC9-BCC9-71D6E81B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DD81F-A332-493A-AFF4-97F0AD9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DB63A-6AFC-4CE8-AE59-370978F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646D7-403E-4EA1-AB0C-65B58A5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940-FC28-484C-910F-FE4C170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F79B-89AB-4ADF-8810-5A38ACC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57013-5CAB-4C63-A50C-3A9F949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DC5BA-71AE-4307-A523-07812E53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701A8-A825-4C32-9E7C-F1C7FB5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F2983-BF57-4C8A-97FE-32616188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180F3-C8A9-4534-89D4-DD37B3D4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854B2-A272-4E2C-A36C-0834F9CF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BB950-F0E7-45E5-9F59-51911E2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91CD5-F0AF-4E90-9EBA-26FBBD7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7FE41-551C-4B49-B82C-F649F3D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20932-C5EC-49BD-BE14-05BE2994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7A97-4F7F-45C1-8ADB-8E54DD6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9DE85-465B-401E-A511-EEF077E3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D1C25-0BA7-4EE0-BB32-4B7D83A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1DF1A-9854-462C-A945-095118B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13DF9-E49A-4476-80FE-80A7C4B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87B5D-52DE-43FA-AA5C-13C3793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8CC6E-823C-494F-A4D6-4CB8B507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66540-9082-4C2A-93CA-BE584D69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3803A-E241-420D-AB0B-275D02CB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6AC4F-040D-4BEF-BAE8-0E69692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9FF25-2E29-4191-ACAF-422EEA1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417-176A-404B-9EBD-B90BF41C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982DD-68A2-4716-AF4D-CEE966D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B3BC2-7D34-42A3-BECE-F7530393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1235A-141D-4E05-BAE8-EA27C63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7B34D-AAA9-4573-9F79-B5FE0B5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194C0-F32C-4311-A18A-F431527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77F46-EE5D-448A-B666-7F02A91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7C7E4-8032-40BD-A1FB-12628CA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1847F-1F49-478B-98E1-F444CB16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56218-BC23-4FFC-A510-27602982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B28-373B-452C-B57A-4613A932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B172-77E9-456A-973E-75140324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870A-A32F-449E-944F-387CECFD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5AB1-E438-4A93-BBF4-3BEFD933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29D51-D09B-4804-9050-7921364B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15AD-3464-486A-BAFD-3C1CC43E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0B06-BA9B-4F60-AA17-2E0B0A4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3D8-6E2C-4FDE-B496-7321CBA6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D046-E224-4C40-9A24-6C8F69B8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D156-3413-4094-90DA-8ABF6CF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DC6B-D9FB-431B-9695-082BBC5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2DB3-7753-4AC5-AD6B-EDB2D42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644F-FDDF-4C0D-88A3-59D027C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B2D5-A104-4D36-9BF6-CFE76CF1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2170-7633-4233-A082-05A60EA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1AA3-D5B3-4EA6-8149-3FC7297A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917A-43E7-42EC-B1B2-1C371CF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0E4A-6F37-4E36-9DCD-E0D6CF3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AAA-2BCE-4433-A0EE-0D30D895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01DB-D5E8-4743-AD9D-A235D66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944E-A316-487D-9946-8EDD5F12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A28C-F467-4ED3-B328-66F5DF7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78F4-8BA6-46A3-B2CE-FA499B2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DB221-F7F3-4207-9E68-36825C31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EA90-843F-49D5-A24B-EF37A8D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A8BC2-4B7F-4C96-A6C9-05D44D9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C3B0-67D2-460C-9E0F-1C542284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93AA-1572-4FA9-989C-59A1299B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BF72-F63D-49E9-9657-B27592FE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5E7-1A83-4073-B1FF-E27639A4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EA9E-9110-4DF6-9784-6186547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D591-8D2B-4188-944B-298E1D9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5281-7E9E-4F86-A14E-2312828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5429-77F3-4E17-9205-EA1CEB5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E41F-E96C-40F5-ABDF-9D48DBF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256EA-132F-4B03-9547-36ED42F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1B5D-B757-45F1-A6B5-B5FE328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69A4-2DF5-42F3-A859-AED1E6E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F745-E95B-43D1-ACAC-6B5C706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CC0B-7C2B-4AE6-B76E-DF4586E2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7B8-8AA8-4D11-ABDE-9EE40CA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680A-1278-4DCF-BA17-B27FC3DE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F801-7BB0-4577-B273-B98EFAD9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0DD1-A0BB-404D-B21D-E36ED500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B570-58D1-4397-A694-8E6C020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B145-4746-4318-8CC2-CC8886BF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0A8F1-D025-4BA1-BEA2-CCB02D5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6FDE-8E0C-4274-81BB-AA5A5091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5CA2-00D5-4296-981E-E66AB57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8067F-1A14-40F4-9A69-CC07366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1FDD-F87B-4AEC-8B33-C0AF2B1E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E4B-EDDA-4A22-A6EE-83F1855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698D-E2A7-4654-867C-A2BA2BD9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BE53-E25D-4945-A7DD-A9DF4789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0204-A5A7-41F8-B62B-38CB05BF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4F66-08F3-41E6-AFCF-69F9FEC9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5D05-3128-4F94-96EC-35F85F4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4423-C0F4-4F42-9D0B-306FC73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65AA-D771-4A96-9785-8E31D19A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1D5E-9974-48DB-8099-C373E788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D3561-E3FB-4991-9C4A-65FD4EB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A6C4-CB1B-4BA5-A95C-EF2748B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108-DF63-4456-9B42-1A2CE5D9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58DCA-FBAF-411F-BF7E-77AB109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8D93E-0CB7-437A-B885-BD2BAA6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99B2-65D5-4527-B517-D07BEC8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A230-1264-47FC-8F6B-B370EB6A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0758D-6C22-41FF-8F1B-8B14A88C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693EF-0529-488F-9E38-F8CF66A1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C7BC1-C90C-4051-B0B5-7873770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5B734-0D8F-4B2B-B503-BC2DD5A2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FE4D9-7535-451B-BF7F-758F61C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C377E-3028-4709-AD2A-46FF7923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4E5-6934-48DC-AAA7-4A24ABC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4AC52-0220-4166-9981-FBDFF89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73D0D-58A5-47C1-B12F-0DE5240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167C-F01F-4919-A87B-43E7005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FA0E-A9D7-4CA9-A223-1BAB334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6B9AC-A827-4C7A-B044-C80924B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1733-BD37-4613-A97F-0BF18D3B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C3BE-B635-4BC0-917C-7C67DA5A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C3D2E-2955-47B1-A186-4D364F89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17423-3575-4310-B5E1-40E39E9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E506-B0E5-4D80-9227-377ABF3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6F8-8917-4772-A266-F9597FDC26D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499-5621-400D-9E7F-A1F45101A5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C129-A5F0-44B8-A916-B7AFBF0425C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90AD-EB57-4090-896F-FCF225FB08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F57-F008-4122-AA5B-ACD05818AD2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0CA-30F5-49B9-BE28-C5948B6755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520-2AE3-44C4-BEC7-0DD9F5CF1F7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709-8C16-47A0-9FD6-035C38936E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E66-57E2-4C64-B64D-FB3F25C21D5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6AB0-1419-4B1D-88E4-1FF6C145A4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E0C8-9B6D-423F-B63F-4611AA4B5A3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89C-9F64-4663-8CD7-40B10AC708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BAB5-E80F-434E-B142-FEA44E4479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F4A-0B78-4ECC-AD42-BB971D5495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9835-27D4-40E3-A6E1-B7CF4C331E1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8410-D09D-4BC3-B55B-1538B129EE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1AA-0C05-4BB5-8BAA-030CD241992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67E3-8981-441D-98BA-5E3D765E2D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0E58-E0A8-47D9-997D-4DE65A81781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5238-E9DC-49EF-955F-F168C254C3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B4F-6BFB-413E-BC8F-2F5F7E37C54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FF6D-70EE-4CC3-B7D2-1009CBA82C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0F3-4BE2-4826-8E10-C9C7E5E9C1D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45E-E2C3-4B62-BD8F-4ABE2F6A11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B8D-DC19-4855-BE07-AA4647EA83C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11C1-E5D1-4CAF-B690-6C18CAB4D5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793-5990-4D1F-BA1D-E87D242D389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624F-D590-4E12-A6B4-9E6BCDEAFA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11A-70AE-40FF-A8F3-2E62597B2CF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3E9-66CF-439A-A649-1122C63B9F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CF2-2114-4048-9B65-0C8FEA96A7D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93A-2C4B-4F24-B0FD-1B3CD9CDDC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F503-EF17-41A2-98CF-657009B5D59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FE7-4324-406C-9A5E-90DDE936FD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C8D3-EC73-4604-B154-2B4EF40840A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AF97-F8F4-406A-AEF7-9A77B68FD1B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9BB-EA15-44EE-BFA5-D99090566F2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617-8DDB-4E46-AF2E-3F84222E2E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4779-7CD6-403D-A73A-C6BED24355C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372-B1A4-4841-9E3E-8E76526C4B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53C5-AB4A-431D-9725-C531507F357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0E18-B7DF-49E6-B06A-6A398026FBD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9E97-7243-4A17-977A-FFD7A348DEC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F30F-BE38-4BD1-B0EF-F8983D093C8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9B4-F14D-4833-BC7C-B33427F2E9C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091-E466-4D9F-A24F-7C8D99CBA44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4F1B-E0F4-41BA-928F-2593027DC70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188-9C56-4CE8-ACAE-BC0D10C2E74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F23D-5A11-43C1-9A03-8D817D4039F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as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3B90-F64C-4AC1-8BAE-55B3D219125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5BC-B97F-4455-BFD9-C5E7A94FC1E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E800-158A-4CDB-841B-C2980F386A4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CD4-F8FA-4B16-8289-6387FF8B878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E4C-1D92-4FAB-AD07-F0549807B51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Fanny Zirulnik</cp:lastModifiedBy>
  <cp:lastPrinted>2012-05-07T21:30:02Z</cp:lastPrinted>
  <dcterms:modified xsi:type="dcterms:W3CDTF">2016-08-30T22:07:44Z</dcterms:modified>
  <cp:revision>42</cp:revision>
  <dc:subject/>
  <dc:title>Presentación de PowerPoint</dc:title>
</cp:coreProperties>
</file>